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22DF-7BFA-4738-9DB4-4150BD4A8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A8D-0926-43BC-B6A5-DC21710E2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B7E1-4388-428B-9176-2DA9790B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B95C-182A-45D8-BC9E-3D25A9B31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2688-7A6C-41CD-A4CC-E64499F5A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3D2C2-9359-4B59-801E-EBCCF36F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8D858-335C-4ECE-B9C6-E10AE23C9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46574-3723-4261-B9EF-337C95EB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747CD-AFB6-4331-82D8-579F0D865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97320-3EC6-42F1-A3D6-33FE77307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8866-2A66-4D79-9591-C4DDBEF2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F76A-9AA0-4436-87C2-1FE811960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28310-7698-4336-AA9C-89CADD629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5E6F1-B8D4-48C6-85F6-3502BC8B5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31101-6CE0-496A-82DB-664ECE485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B535-46CE-4E6C-9DBD-55A97E57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DE77E-0B62-4D06-9318-3BAB0B2C5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6F791-6853-4235-9212-AFF6AE13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A7F3E-1BB0-4461-A46E-E33FE681D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F9679-C1DF-48D8-B3BB-7FD4D864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303C1-23B6-4512-A57F-3BD815B12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CF31A4-DF18-43B6-9A89-2D8CA9B42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7749-65F5-47EF-BA3B-2E294E704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3223BB-4BFD-4AF0-A414-B08ED2AD2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A41642-E989-4E83-9995-BDDAFF0F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25501E-390E-45AC-B3DD-EAA9AF890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0D4306-D3AE-4748-BBF4-AA40562FF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0F410-B9AD-4544-8F1E-F9EECD22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3D032-9C38-4050-A019-8FA233DD31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9DF33-E0C4-4DA7-AA45-C67158AF8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1F66-5A38-49E2-884B-7800F90B7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9469B-64F0-4485-A746-FB917D0D9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7CEA6-8D7E-46BB-8DC5-231CB3906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BBA4-BC4C-4B7D-933A-562578208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79D-49CC-469B-9F5A-B5D77239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70B8-4A10-4880-80FF-729D997AB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F95D2-4705-419C-A7A6-B70EED15155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5E1DC-2E24-4381-B97B-A80C3132FEC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19B7F-678E-4661-9F2A-296AD1CD5890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www.holliston.k12.ma.us/adams/isafe/isafe.htm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getnetwise.org/glossary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boolify.org/" TargetMode="Externa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http://www.digital-librarian.com/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ww.superteachertools.com/" TargetMode="Externa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media2.caboces.org/main/lcl_login_refer.htx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duplace.com/kids/usingweb/g3-5.html" TargetMode="External"/><Relationship Id="rId3" Type="http://schemas.openxmlformats.org/officeDocument/2006/relationships/hyperlink" Target="http://www.eduplace.com/kids/usingweb/g6-8.html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monash.com/spidap.html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readwritethink.org/lessons/lesson_view.asp?id=983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sldirectory.com/libsf/resf/techplans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www.cybersmartcurriculum.org/" TargetMode="External"/><Relationship Id="rId3" Type="http://schemas.openxmlformats.org/officeDocument/2006/relationships/hyperlink" Target="http://www.ctap4.net/projects/cybersafety.html" TargetMode="Externa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media-awareness.ca/english/games/privacy_playground/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netsmartz.org/netteens.ht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Title 1" descr=""/>
          <p:cNvPicPr/>
          <p:nvPr/>
        </p:nvPicPr>
        <p:blipFill>
          <a:blip r:embed="rId1"/>
          <a:stretch/>
        </p:blipFill>
        <p:spPr>
          <a:xfrm>
            <a:off x="755640" y="987480"/>
            <a:ext cx="7711920" cy="2828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holliston.k12.ma.us/adams/isafe/isafe.ht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getnetwise.org/glossary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boolify.org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32372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2"/>
          <p:cNvSpPr/>
          <p:nvPr/>
        </p:nvSpPr>
        <p:spPr>
          <a:xfrm>
            <a:off x="2928240" y="3244680"/>
            <a:ext cx="3350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 http://www.digital-librarian.c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"/>
          <p:cNvSpPr/>
          <p:nvPr/>
        </p:nvSpPr>
        <p:spPr>
          <a:xfrm>
            <a:off x="2730600" y="3244680"/>
            <a:ext cx="368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410082"/>
                </a:solidFill>
                <a:uFillTx/>
                <a:latin typeface="Arial"/>
                <a:hlinkClick r:id="rId2"/>
              </a:rPr>
              <a:t>http://www.superteachertools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52" name="Rectangle 4"/>
          <p:cNvSpPr/>
          <p:nvPr/>
        </p:nvSpPr>
        <p:spPr>
          <a:xfrm>
            <a:off x="2362320" y="1981080"/>
            <a:ext cx="5333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juliethompson.com/SMART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woodlands-junior.kent.sch.uk/interactive/onlinestory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1.center.k12.mo.us/edtech/resources/SBsites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jc-schools.net/ppts-library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sachem.edu/dept/sd/smartboard/Elementary%20Resources.ht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ttp://www.learner.org/interactive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media2.caboces.org/main/lcl_login_refer.htx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eduplace.com/kids/usingweb/g3-5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eduplace.com/kids/usingweb/g6-8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itle 1" descr=""/>
          <p:cNvPicPr/>
          <p:nvPr/>
        </p:nvPicPr>
        <p:blipFill>
          <a:blip r:embed="rId1"/>
          <a:stretch/>
        </p:blipFill>
        <p:spPr>
          <a:xfrm>
            <a:off x="384120" y="268200"/>
            <a:ext cx="8461440" cy="11588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monash.com/spidap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readwritethink.org/lessons/lesson_view.asp?id=983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sldirectory.com/libsf/resf/techplans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cybersmartcurriculum.org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ctap4.net/projects/cybersafety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media-awareness.ca/english/games/privacy_playground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netsmartz.org/netteens.ht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9T18:35:33Z</dcterms:created>
  <dc:creator>MaryAnn Hebert</dc:creator>
  <dc:description/>
  <dc:language>en-US</dc:language>
  <cp:lastModifiedBy>MaryAnn Hebert</cp:lastModifiedBy>
  <dcterms:modified xsi:type="dcterms:W3CDTF">2009-03-18T13:49:05Z</dcterms:modified>
  <cp:revision>34</cp:revision>
  <dc:subject/>
  <dc:title> STUDY SKILLS AND THE INTERNET</dc:title>
</cp:coreProperties>
</file>